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60245-6B7F-4E1F-AB1F-5EB39A4DD195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5613E-15DF-4EF1-AA48-A60DF86369DB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FB119-487D-43A0-B6F0-4CE4356B754F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5EF20-5DE4-4146-A3A9-70115B2E947C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7F0A5-8251-4D9E-A659-C6B1871B4E22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17757-5BBD-4C16-AF3E-08E176F9834A}" type="slidenum">
              <a:rPr b="0" lang="pt-P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184-5495-4B50-AFEE-41E7D245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B31-F9F0-445E-B72B-4B9080E6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0A0-ECC4-4EF5-8E6B-2C2D29F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EE0-0650-48D6-9928-5CF1D735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C4C-A58F-43D2-B31E-8905A5CC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E05-B19D-4B31-ABB7-5A8243A6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982-870E-48F9-8E33-067B23D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F4A-47BF-46D6-916C-94B6AA2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963-D6E2-4A2B-9CB0-0F1914EB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575-1697-41F3-861D-C99719CE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097-A5EE-4017-B2CA-A58341E4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331-97CB-4A7F-89AB-3BF0F663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12D0-CE44-4BB9-AD9A-D5FCC7D2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98FB-21C9-4D86-8BFF-58B4BA15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16D-6E92-4FA3-B56A-5A62DA30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E398-63CB-4B1C-9BE2-89A5B07A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72E3-E6D8-4E68-A8D3-0958DFBA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BADF-6F4A-45F3-B76B-9A6568D1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0808-699D-4DEC-9AE2-B9ABF5E9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EB9D-3FDA-4544-A795-5CD8E905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D759-BB0A-486D-BF3E-2AD04DF9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4340-7B25-424C-9D10-3D9F7FA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1592-A267-4363-822C-92B33AFF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4780-4EE9-463F-9856-A93B6FEA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4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A19D-F0FC-4ED6-A697-853B09E5A6B8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9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95D4-24D8-4CFB-A234-1381D1086821}" type="slidenum">
              <a:rPr b="0" lang="pt-PT" sz="18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516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30937"/>
                </a:solidFill>
                <a:latin typeface="Arial"/>
              </a:rPr>
              <a:t>Lastragem e pneus</a:t>
            </a:r>
            <a:endParaRPr b="1" lang="en-US" sz="4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3573360"/>
            <a:ext cx="487044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o 1"/>
          <p:cNvGraphicFramePr/>
          <p:nvPr/>
        </p:nvGraphicFramePr>
        <p:xfrm>
          <a:off x="6516720" y="3422520"/>
          <a:ext cx="1876320" cy="28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Objecto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3422520"/>
                    <a:ext cx="187632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2438280" y="1600200"/>
            <a:ext cx="5410440" cy="3657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808080"/>
                </a:solidFill>
                <a:latin typeface="Lucida Sans Unicode"/>
              </a:rPr>
              <a:t>VAMOS CONHECER UM PNEU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VEJAMOS UM PNEU EM CORT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Lonas ou tela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Talões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Bojo ou flanc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5229360" y="1981080"/>
          <a:ext cx="2646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9360" y="1981080"/>
                    <a:ext cx="2646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88840" y="836640"/>
            <a:ext cx="7715520" cy="14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OS PNEUS PODEM CLASSIFICAR-SE PELA SUA ESTRUTUR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2101680" cy="31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o 1"/>
          <p:cNvGraphicFramePr/>
          <p:nvPr/>
        </p:nvGraphicFramePr>
        <p:xfrm>
          <a:off x="6948360" y="2421000"/>
          <a:ext cx="2062440" cy="31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o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421000"/>
                    <a:ext cx="20624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BANDA DE ROLAMENTO ESTÁ SOLIDÁRIA COM OS FLANCOS,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Diagon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Fricção com 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esgaste mais rápi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nor aderênci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Consumo de combustível mais elevad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189400" y="1981080"/>
            <a:ext cx="272736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s flexões não são transmitidas à banda de rolamen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wis721 BdOul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30937"/>
                </a:solidFill>
                <a:latin typeface="Swis721 BdOul BT"/>
              </a:rPr>
              <a:t>DAÍ RESULTA: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 Radial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a compactação do sol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Reduz 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umenta a produtiv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iminui o consum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Melhora o conforto e a flexibilidade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5214960" y="1981080"/>
          <a:ext cx="2676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1981080"/>
                    <a:ext cx="2676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NO FLANCO DO PNEU, ENCONTRAMOS ALGUNS NÚMEROS E LETRAS QUE IDENTIFICAM AS MEDIDAS DE UM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685800" y="3027240"/>
            <a:ext cx="3809880" cy="2021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Primeiro número  que encontramos identifica a largura total do pneu (em mms ou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 rot="19832400">
            <a:off x="990720" y="38858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190760" cy="3938760"/>
          </a:xfrm>
          <a:prstGeom prst="rect">
            <a:avLst/>
          </a:prstGeom>
          <a:ln w="0">
            <a:noFill/>
          </a:ln>
        </p:spPr>
      </p:pic>
      <p:sp>
        <p:nvSpPr>
          <p:cNvPr id="197" name="Oval 6"/>
          <p:cNvSpPr/>
          <p:nvPr/>
        </p:nvSpPr>
        <p:spPr>
          <a:xfrm rot="978600">
            <a:off x="1904760" y="4648320"/>
            <a:ext cx="30456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Line 7"/>
          <p:cNvSpPr/>
          <p:nvPr/>
        </p:nvSpPr>
        <p:spPr>
          <a:xfrm flipH="1" flipV="1">
            <a:off x="24379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2º número identifica a série do pneu, ou seja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lação que existe entre a altura do flanco e a largura total do pneu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 rot="912600">
            <a:off x="1904760" y="4724280"/>
            <a:ext cx="30456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Line 5"/>
          <p:cNvSpPr/>
          <p:nvPr/>
        </p:nvSpPr>
        <p:spPr>
          <a:xfrm flipH="1" flipV="1">
            <a:off x="2666880" y="43430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MEDIDAS DE UM PNEU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9640" y="1988640"/>
            <a:ext cx="845496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iste na adição de peso ao tractor com dois objetivos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ossibilitar a melhoria da aderência ao solo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-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Permitir um melhor equilíbrio do tractor, facilitando assim a transferência de peso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lastragem pode ser feita pela colocação de pesos ou pela adição de água nas rodas traseiras do trac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 colocação de pesos pode ser feita nas rodas do tractor, na parte dianteira e ainda no sistema de levantamento hidráulico traseir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O último nº identifica o diâmetro da jante (em polegadas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685800" y="2247840"/>
            <a:ext cx="3809880" cy="3579840"/>
          </a:xfrm>
          <a:prstGeom prst="rect">
            <a:avLst/>
          </a:prstGeom>
          <a:ln w="0">
            <a:noFill/>
          </a:ln>
        </p:spPr>
      </p:pic>
      <p:sp>
        <p:nvSpPr>
          <p:cNvPr id="206" name="Oval 4"/>
          <p:cNvSpPr/>
          <p:nvPr/>
        </p:nvSpPr>
        <p:spPr>
          <a:xfrm rot="491400">
            <a:off x="1904760" y="4724280"/>
            <a:ext cx="380880" cy="114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Line 5"/>
          <p:cNvSpPr/>
          <p:nvPr/>
        </p:nvSpPr>
        <p:spPr>
          <a:xfrm flipH="1" flipV="1">
            <a:off x="2971440" y="4038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EDIDAS DE UM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um dado importante, que está directamente ligado: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1- À velocidade máxima a que pode circul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2-À carga que pode suport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ambém é possível conhecê-la nos números identificados no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capacidade de carga é-nos dada por um número (146) que figura numa tabela universal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648320" y="3027240"/>
            <a:ext cx="3809880" cy="2230560"/>
          </a:xfrm>
          <a:prstGeom prst="rect">
            <a:avLst/>
          </a:prstGeom>
          <a:ln w="0">
            <a:noFill/>
          </a:ln>
        </p:spPr>
      </p:pic>
      <p:sp>
        <p:nvSpPr>
          <p:cNvPr id="216" name="Line 5"/>
          <p:cNvSpPr/>
          <p:nvPr/>
        </p:nvSpPr>
        <p:spPr>
          <a:xfrm>
            <a:off x="7238880" y="3809880"/>
            <a:ext cx="763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velocidade máxima a que deve rodar é identificada por uma letra conjugada com um nº (A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631960"/>
          </a:xfrm>
          <a:prstGeom prst="rect">
            <a:avLst/>
          </a:prstGeom>
          <a:ln w="0">
            <a:noFill/>
          </a:ln>
        </p:spPr>
      </p:pic>
      <p:sp>
        <p:nvSpPr>
          <p:cNvPr id="220" name="Line 5"/>
          <p:cNvSpPr/>
          <p:nvPr/>
        </p:nvSpPr>
        <p:spPr>
          <a:xfrm flipH="1">
            <a:off x="3733920" y="35812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RESISTÊNCIA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resistência pode ainda aparecer no pneu identificado pelas letras </a:t>
            </a:r>
            <a:r>
              <a:rPr b="0" lang="pt-PT" sz="2800" spc="-1" strike="noStrike">
                <a:solidFill>
                  <a:srgbClr val="030937"/>
                </a:solidFill>
                <a:latin typeface="Futura XBlk BT"/>
              </a:rPr>
              <a:t>PR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seguidas de um número que identifica o nº de camadas de lona do pneu (PR 8)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2676240"/>
          </a:xfrm>
          <a:prstGeom prst="rect">
            <a:avLst/>
          </a:prstGeom>
          <a:ln w="0">
            <a:noFill/>
          </a:ln>
        </p:spPr>
      </p:pic>
      <p:sp>
        <p:nvSpPr>
          <p:cNvPr id="224" name="Oval 5"/>
          <p:cNvSpPr/>
          <p:nvPr/>
        </p:nvSpPr>
        <p:spPr>
          <a:xfrm>
            <a:off x="3352680" y="3505320"/>
            <a:ext cx="533520" cy="533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Text Box 6"/>
          <p:cNvSpPr/>
          <p:nvPr/>
        </p:nvSpPr>
        <p:spPr>
          <a:xfrm rot="2345400">
            <a:off x="3351600" y="365724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R 8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276720" y="35053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657600" y="39625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3048120" y="3276720"/>
            <a:ext cx="304560" cy="304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3733920" y="3505320"/>
            <a:ext cx="380880" cy="228600"/>
          </a:xfrm>
          <a:prstGeom prst="line">
            <a:avLst/>
          </a:prstGeom>
          <a:ln w="284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Dúvidas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frente do trator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8254800" cy="3705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 retaguarda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996320" cy="3751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681696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Lastragem nas roda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62080" y="1819440"/>
            <a:ext cx="848664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Script MT Bold"/>
              </a:rPr>
              <a:t>De nada serve ter muita potência no motor, se houver muita patinagem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0937"/>
              </a:buClr>
              <a:buFont typeface="Vineta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Vineta BT"/>
              </a:rPr>
              <a:t>Escolha o pneu certo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58" name="Picture 3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184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4"/>
          <p:cNvSpPr/>
          <p:nvPr/>
        </p:nvSpPr>
        <p:spPr>
          <a:xfrm>
            <a:off x="1523880" y="762120"/>
            <a:ext cx="6934320" cy="1295280"/>
          </a:xfrm>
          <a:prstGeom prst="wedgeEllipseCallout">
            <a:avLst>
              <a:gd name="adj1" fmla="val 2587"/>
              <a:gd name="adj2" fmla="val 237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TÊNCIA DO MOTOR TEM QUE SER TRANSMITIDA AO S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FUNÇÕES DO PNEU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portar a carg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as forças de aceleração e travagem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igir o veícul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suspensão e no confort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articipar na estabilidade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ransmitir informação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sumir a menor energia possí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162" name="Picture 4" descr="D:\PFiles\MSOffice\Clipart\standard\stddir1\BD05175_.WMF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NEUS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RACTERIZAÇÃO DOS VÁRIOS TIPOS DE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EDIDAS DOS PNEUS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SISTÊNCIA DE UM PNEU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20T14:39:16Z</cp:lastPrinted>
  <dcterms:modified xsi:type="dcterms:W3CDTF">2017-03-20T14:39:43Z</dcterms:modified>
  <cp:revision>374</cp:revision>
  <dc:subject/>
  <dc:title>Slide 1</dc:title>
</cp:coreProperties>
</file>